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FA1-7485-4AE3-A238-B1851847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D45-7A10-4565-8AB0-45D6186D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5B9-11C7-4B38-84AE-A82A3122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E90-4B95-4A26-A673-62E14868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73BE-8C6D-470A-905E-88CFA41A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9B60-B63E-4291-9999-0FA0CD79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4C1C-B45F-408B-908F-6F8C53CE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81B1-C49E-4DB1-83BD-B7A99C1B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1CF9-7270-4129-81BC-D5A425F9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9568-2FC6-47E6-8AE8-37A48841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49F6-DD11-4D12-8849-89F61541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806-0B7D-4D8A-9417-B9B6EE41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2CD9-7BE1-4BBA-911F-C4722F5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5060-93C8-46E4-B191-C422F39E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EFD3-976E-498C-903E-6F08F6B7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B113-7408-44A7-9677-64BA9F56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F593-4A19-4246-8508-0CE42206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433-3189-4102-95BA-3ACE3E05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DF5-413E-4D72-B9F9-20824B90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0B2-4579-4358-B6D4-F4E1315C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4DA-4535-44EA-80A6-B9AB9DD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B32-BBA8-4EFF-A781-D0B7AF3A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DA1-DEE8-472D-956A-D83A4C1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2DF-3EAD-4F27-9334-FF80FC0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557E-97BF-46EB-B174-C510FDDA5B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ED0B-BB3F-4C8D-B98D-2E87D8B093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6.xml"/><Relationship Id="rId6" Type="http://schemas.openxmlformats.org/officeDocument/2006/relationships/slide" Target="slide14.xml"/><Relationship Id="rId7" Type="http://schemas.openxmlformats.org/officeDocument/2006/relationships/slide" Target="slide5.xml"/><Relationship Id="rId8" Type="http://schemas.openxmlformats.org/officeDocument/2006/relationships/slide" Target="slide17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rtcuts and Hotk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1066680"/>
          <a:ext cx="5257800" cy="482580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Ctrl – 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Ctrl – 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Ctrl –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Ctrl – 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Ctrl – 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Ctrl – V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Ctrl – Z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Ctrl – 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Ctrl – 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- 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W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rl – 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 – T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T - T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ing the ALT key and pressing tab moves between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152520" cy="1962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ically saves what you are working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039840" cy="17478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specific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14560" cy="291456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s a word and allows you to replace it with an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105520" cy="303876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V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es text or a file to another 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071800" cy="3436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ld fac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76720" y="2666880"/>
            <a:ext cx="2786040" cy="30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ies text or a file to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887920" cy="271296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3878280" cy="33112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new file in the program you are u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809880" cy="30700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s a file when in a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668320" cy="34686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 your words in ital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790720" cy="2819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s all text or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890800" cy="291168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o – takes back the last action you typed (usual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273708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 a file or text and places it on the computer’s clip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438640" cy="237168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lines the text you 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26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o – if you hit undo by mistake, this will bring it 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trl - 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s a wind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436840" cy="271008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28600" y="3049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3:07:53Z</dcterms:created>
  <dc:creator>OIT</dc:creator>
  <dc:description/>
  <dc:language>en-US</dc:language>
  <cp:lastModifiedBy>OIT</cp:lastModifiedBy>
  <dcterms:modified xsi:type="dcterms:W3CDTF">2007-01-25T03:50:39Z</dcterms:modified>
  <cp:revision>5</cp:revision>
  <dc:subject/>
  <dc:title>Shortcuts and Hotkeys</dc:title>
</cp:coreProperties>
</file>